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F1A-F750-4B8B-841E-E62FC86D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E36-4698-4EAD-AA0E-FDCD4257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E96-C0D1-4715-8035-388B9F34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444-C4C7-4D0B-9B08-2738B182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F02A-C9AE-4FEA-A35B-F245DB72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AE79-8201-4BD7-8FD4-C1BE9419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C817-AAFB-4C5C-A6D1-A0E72E54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F84A-B93F-4AF9-8AC7-ECEE6AFE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5729-3595-43F0-B028-F283F144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EAF2-7EC1-45F4-90A0-C839C22A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1F0A-0B80-4B61-B11A-40BC05CD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AE4-6017-4BAA-A7DF-01B478D1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2E97-2DCD-4805-91BA-C0C3F9F6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5BD7-400C-4EE4-B63F-97E49ADD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89EC-6AA4-46E0-890C-5DBB235D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E456-AC7F-4A40-A816-DF7BA525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2E1E-8A67-4CCB-83E8-97F9B7C3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7B1-479D-4A77-A359-12BDC5EA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211-134F-40DA-9CCC-E796FE86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DBD-84F8-4300-BC22-55D0D531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8F2-58F6-40DF-9E26-7B1A1623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B7B-35C0-4B3B-BB0B-B50AE330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13E-B86E-4C75-B6B9-D3BC3EE6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3D2-9A7B-4ABC-B3A8-E49B9836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627E-E260-4A30-A81E-B77141462E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D21D-D4DC-428C-AC4A-9D8C776656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Р по сносу (демонтажу)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073160"/>
            <a:ext cx="812160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проекта организации работ (ПОР) по сносу или демонтажу объектов капитального строитель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Разработка проекта по демонтажу или сносу осуществляется с целью безопасного и в заданные сроки производства работ по сносу или демонтажу зданий, охраны окружающей среды и утилизации отходов при организации сноса зданий и сооруж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Структура приведенных в программном модуле задач соответствует требованиям Постановления Правительства РФ от 16.02.2008 № 87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ексты, приведенные в программном модуле, содержат положения, указания и описания мероприятий, необходимых для производства работ по демонтажу (сносу) зданий и сооруж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нужным образом отредактировать отобранный материал и  оформить его в виде необходимого документа. Модуль предназначен для эксплуатации в проектных и строительно-монтажных организациях, разрабатывающих проекты организации работ, а также для организаций, выполняющих работы по демонтажу (сносу) здания и сооруж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, реконструкции и сносе объектов капитального строительств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2624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32040" y="1168560"/>
            <a:ext cx="7343640" cy="39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901800" y="1641600"/>
            <a:ext cx="7489800" cy="21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15960" y="56228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839880" y="1327320"/>
            <a:ext cx="7539120" cy="38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424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документацию, отражающую вопросы техники безопасности и охраны труд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544760" y="1379520"/>
            <a:ext cx="6251400" cy="269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10-13T10:12:39Z</dcterms:modified>
  <cp:revision>254</cp:revision>
  <dc:subject/>
  <dc:title>Слайд 1</dc:title>
</cp:coreProperties>
</file>